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194F-A02A-4A1E-8690-236B0DB9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2B7D-BFC4-4E54-AF53-16CA3E5B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2E5D-2495-4D8E-832C-AE3C5D73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9A1D-28D7-4985-807B-218B013A9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09DB-ED39-41E2-81E7-74894A7D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5CAB-94ED-45DC-9E42-0D6DF0C1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BC05-46EC-443C-BA4D-CB3D5DEC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7989-9B58-4A8A-9BB4-2060CE27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5E1D-2CA9-45EF-9ADB-0275EEC5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8976-26AC-43E1-A5B3-21DABC1F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2D68-1A01-4CBB-8A5E-24482670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FADF-2670-4F9D-A6BF-9575837A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5056-A78D-4F3B-ADBF-AC569A400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тицање знања, вештина и компетенција пр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сионалаца за рад са младим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з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у петофазног процесног модела професионалне оријентације и стварање системске мреже подршке у области професионалне оријент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6516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447920"/>
            <a:ext cx="8610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пшти циљ програма базичне о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3880" y="1143000"/>
            <a:ext cx="69613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286000"/>
            <a:ext cx="853416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напређивање знања, вештина и компетенција професионалаца 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имену модела П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оз модуле: самоспознаја, информисање о занимањима, каријери и путевима образовања, реални сусрети са светом рада и доношење одлуке о школи и занимањ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ршку у остваривању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ал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х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сре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са партнерима у области ПО: средње школе;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калне канцеларије за младе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ционална служба за запошљавање; привре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д с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одитељ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а на пружању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дрш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ци у  процесу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ионалног информисања и саветовања  до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оношењ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одлуке о избору школе и занимањ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оцесно оријентисано индивидуално праћење младих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области професионалне оријентациј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режавање професионалац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институциј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 ширење идеје о процесном петофазном моделу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ионалне оријентације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990720"/>
            <a:ext cx="88390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пецифични циљеви базичне обу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у у средњу шко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MP</cp:lastModifiedBy>
  <dcterms:modified xsi:type="dcterms:W3CDTF">2012-02-04T13:21:13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